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9689-2245-4BA8-9541-B84BFC4A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4CE5-9C5F-4E23-A2DB-9F436320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86F0-5DDD-431A-8C2C-9BE5627F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4C6F-3F3D-4BC1-B509-57252291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EA9D-FFDA-4FD8-B76C-0AC7F9C7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BD7-B598-4E28-B2E9-DADCABE7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EC5-83D8-4026-A0D6-D8E503A8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102A-132D-4C1B-9F34-D8029B70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9344-86D7-46AC-AFFF-7F374C0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B2F-6DA0-462F-A6A5-F83BE98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2A42-60A3-47C5-8FD8-123BAAF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CE22-817F-433E-8183-49F9AD03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258-02A8-4E13-B159-AF05BF74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2F57-E030-42CC-B6DD-017BD7DE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469E-1486-4D68-B489-C4BF0443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990-A5D3-4A3B-B3CE-471C938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4B6-C112-440F-99C4-FB3E0511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A7AE-BD31-4865-9D37-21CCC8E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4845-E7E5-4535-82B6-124F335A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3A89-5378-4540-A578-D9C4B41B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89D4-7B7D-41CD-A269-8AF643B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C8F9-87A9-41B1-8D8F-11DEF35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5BA6-AB00-4C30-81C2-0FE5B6F2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3CB0-D4B0-454E-B234-6D39233B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F38-C813-40C6-AED3-F34205AE5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8B42-D6C6-4112-B935-17DD08A1B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OLONIAL SOCIETY ON THE EVE OF REV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mrkn296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ure of Tra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being traded to Eu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Eur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iangular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5.3: Colonial Trade Patterns, c. 17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913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nial Manufact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was limited and only of secondary import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partly due to lack of money to 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partly due to lack of laborer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partly due to mercantil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mb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bering was the most important manufacturing activ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ere British so hungry for American ti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Navy and merchant marines needed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British merchant marine  (Ships) was American-bui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in, pitch, tar and turpentine were also highly valued by sh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lumberjack"/>
          <p:cNvPicPr/>
          <p:nvPr/>
        </p:nvPicPr>
        <p:blipFill>
          <a:blip r:embed="rId1"/>
          <a:stretch/>
        </p:blipFill>
        <p:spPr>
          <a:xfrm>
            <a:off x="5867280" y="1828800"/>
            <a:ext cx="2478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Problem in the 1730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conomic problems faced US in 173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and saturated with American produc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s need cash and the only way to get cash is through sale of American go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mericans want to tap other markets to sell their go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hipping a lot of timber and food to the French West Indies, which is providing cash for Americans to buy from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lasses Act of 173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it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tent of the 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olonists rea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olasses"/>
          <p:cNvPicPr/>
          <p:nvPr/>
        </p:nvPicPr>
        <p:blipFill>
          <a:blip r:embed="rId1"/>
          <a:stretch/>
        </p:blipFill>
        <p:spPr>
          <a:xfrm>
            <a:off x="579600" y="1905120"/>
            <a:ext cx="2730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inant Denomin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stablished (tax supported) churches were dominant in the colonies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ican (Church of Eng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gational (Purit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lonists did not attend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epischurch1795"/>
          <p:cNvPicPr/>
          <p:nvPr/>
        </p:nvPicPr>
        <p:blipFill>
          <a:blip r:embed="rId1"/>
          <a:stretch/>
        </p:blipFill>
        <p:spPr>
          <a:xfrm>
            <a:off x="5619600" y="1981080"/>
            <a:ext cx="209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glican Chur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church in Ga., North and South Carolina, Va. and Mary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st in the 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Britain want to increase its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ery ferv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rgy was poorly tr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icans lacked a bishop in America, thus all ministers had to train in Engla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sts resisted idea of an American Bish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gregational Chur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gational church formally established in all NE colonies except 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hotbed for rebellion, and as rebellion neared ministers often preached sedition from the pulp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bo0767l"/>
          <p:cNvPicPr/>
          <p:nvPr/>
        </p:nvPicPr>
        <p:blipFill>
          <a:blip r:embed="rId1"/>
          <a:stretch/>
        </p:blipFill>
        <p:spPr>
          <a:xfrm>
            <a:off x="4932360" y="1981080"/>
            <a:ext cx="3468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reat Awake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ess ferv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an churches struggling.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 dog” min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 worried that the people had grown so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 ideas began to challenge old time reli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Features Of Colon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were growing dramat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700 and 1775 colonies doubled their population every 25 yea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for population grow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the ratio of blacks to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% of population lived in rural ar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olonies_1763"/>
          <p:cNvPicPr/>
          <p:nvPr/>
        </p:nvPicPr>
        <p:blipFill>
          <a:blip r:embed="rId1"/>
          <a:stretch/>
        </p:blipFill>
        <p:spPr>
          <a:xfrm>
            <a:off x="5398920" y="1600200"/>
            <a:ext cx="3083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reat Awake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igious revival in 1730-4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 like wildfi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reaction against the rationalism and enlightenment of the period that put reason above Go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against complacency of reli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North American Mass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nathan Edw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nathan Ed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Great Awaken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thinker; burned with 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on Sal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sermon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ners in the Hands of an Angry 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rge Whit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loqu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lead people back to God through the passion of his rheto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val mee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edwards"/>
          <p:cNvPicPr/>
          <p:nvPr/>
        </p:nvPicPr>
        <p:blipFill>
          <a:blip r:embed="rId1"/>
          <a:stretch/>
        </p:blipFill>
        <p:spPr>
          <a:xfrm>
            <a:off x="6595920" y="1523880"/>
            <a:ext cx="1764000" cy="2057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whitfield"/>
          <p:cNvPicPr/>
          <p:nvPr/>
        </p:nvPicPr>
        <p:blipFill>
          <a:blip r:embed="rId2"/>
          <a:stretch/>
        </p:blipFill>
        <p:spPr>
          <a:xfrm>
            <a:off x="6553080" y="3733920"/>
            <a:ext cx="1897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of the Great Awake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plit off to new chu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ed older cl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eno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missionar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ing of new col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down sectional boundaries and contributed to sense of Americans as on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s and Colle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64832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view of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-Fiel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ies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Museums-157b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oneer P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could not buy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few libraries b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s typically contained dull essays and comment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g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colonial%20newspaper"/>
          <p:cNvPicPr/>
          <p:nvPr/>
        </p:nvPicPr>
        <p:blipFill>
          <a:blip r:embed="rId1"/>
          <a:stretch/>
        </p:blipFill>
        <p:spPr>
          <a:xfrm>
            <a:off x="533520" y="2590920"/>
            <a:ext cx="33336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In The Coloni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were royal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ere proprietorships ( Maryland, Pennsylvania, and Dela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had self-governing charters  (Connecticut and Rhode Islan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ime of Revolution, most were roy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Features in Gover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the colonies used a two-house legisl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s of Legisl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ntrol the Gover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and/or property-owning requirements for vote existed in all colon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ulation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population cooped up between Atlantic and Appalachi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uard of settlers across mountains and as far as Tenn. and Kentuc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., Mass., Pa, NC and Maryland were the biggest colonies, in that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y the biggest city with 34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America was a melting pot by 177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(6%) (150,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s-Irish (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uropeans (5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5713560" y="457200"/>
            <a:ext cx="302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342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Colonial Societ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Europe, America was a land of equality and opportunity — except for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markable feature was the ease with which could go from rags to riches on the social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yoeman"/>
          <p:cNvPicPr/>
          <p:nvPr/>
        </p:nvPicPr>
        <p:blipFill>
          <a:blip r:embed="rId1"/>
          <a:stretch/>
        </p:blipFill>
        <p:spPr>
          <a:xfrm>
            <a:off x="457200" y="1676520"/>
            <a:ext cx="2943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Of Colonial Societ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776 social stratification beginning to set i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d some barriers to upward mobility and fears that America becoming Europeaniz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oumasp"/>
          <p:cNvPicPr/>
          <p:nvPr/>
        </p:nvPicPr>
        <p:blipFill>
          <a:blip r:embed="rId1"/>
          <a:stretch/>
        </p:blipFill>
        <p:spPr>
          <a:xfrm>
            <a:off x="4572000" y="1981080"/>
            <a:ext cx="42670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aday Amer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was the leading industry — 90%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bacco the Staple crop in Maryland and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in the primar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p in the Middle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tobacco1"/>
          <p:cNvPicPr/>
          <p:nvPr/>
        </p:nvPicPr>
        <p:blipFill>
          <a:blip r:embed="rId1"/>
          <a:stretch/>
        </p:blipFill>
        <p:spPr>
          <a:xfrm>
            <a:off x="581040" y="1523880"/>
            <a:ext cx="385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aday Amer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 standard of living compared to rest of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Industry in New Eng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ing/wh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essential Yankee T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od(NOAA_pic_for_index)"/>
          <p:cNvPicPr/>
          <p:nvPr/>
        </p:nvPicPr>
        <p:blipFill>
          <a:blip r:embed="rId1"/>
          <a:stretch/>
        </p:blipFill>
        <p:spPr>
          <a:xfrm>
            <a:off x="1905120" y="3798720"/>
            <a:ext cx="4419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20:44:53Z</dcterms:created>
  <dc:creator>John Steere</dc:creator>
  <dc:description/>
  <dc:language>en-US</dc:language>
  <cp:lastModifiedBy>Jenkins, Mark</cp:lastModifiedBy>
  <dcterms:modified xsi:type="dcterms:W3CDTF">2012-01-27T16:50:05Z</dcterms:modified>
  <cp:revision>21</cp:revision>
  <dc:subject/>
  <dc:title>Chapter 5</dc:title>
</cp:coreProperties>
</file>